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36D-4917-41E2-A75B-4A300F55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7DB8-2486-40F3-9DC2-795454BCF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9BD-D4DD-47E4-BEBF-A4BCEC4C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E7F-DCCC-4943-9928-34AA80B8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A314-0D67-4BFF-8436-FF969A49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553-0F92-4551-BD66-516A37B4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B9A-3FC0-460E-8E20-AF97C4EF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4F2C-C232-419E-BCB9-3DC23147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6849-57A1-4026-93D7-C72C9800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4425-1D98-4AEC-B099-3E4CFF3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FB6D-47BC-4D31-B390-FE2D76A5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8CB-2E43-4543-9B57-CDCC1A89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C266-EACF-4379-8544-2EDCA950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53B-D5C5-42E8-8DB0-F5F122D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248B-421A-4E06-8E88-AB3BD142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FF61-5C91-47AE-9B91-00E325AF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9690-717E-48DE-9F6E-9F2253E7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10A-F8E3-42ED-8123-9255AF6F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E2A-7A1E-44A4-B1EC-C2807DF0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9A5-83F5-4ED2-8736-C5215B3A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FAF-BDE5-4EDF-8777-8FF1BBC6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71C-E54C-4618-A02A-2380009F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ECF-B2B8-4AFF-A0B0-757462C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0B0-585C-4B9B-A3D0-95F12F06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455D-05E4-442F-A238-DFCA22829D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ff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70F-8DD3-48C1-892F-72E7C672F9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31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66ff"/>
                </a:solidFill>
                <a:latin typeface="Showcard Gothic"/>
              </a:rPr>
              <a:t>Series and Parallel Circuits</a:t>
            </a:r>
            <a:endParaRPr b="0" lang="en-US" sz="56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Voltage Example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sistance in Series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Add up all resistors to get total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tal resistance will go up because all of the current must go through each resistor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Resistanc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Sample Problem #1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Draw a series circuit with two 1.5 V batteries, 3 resistors, and a current of 0.5 A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total voltage of the circuit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resistance of </a:t>
            </a:r>
            <a:r>
              <a:rPr b="0" lang="en-US" sz="3400" spc="-1" strike="noStrike" u="sng">
                <a:solidFill>
                  <a:srgbClr val="ffffff"/>
                </a:solidFill>
                <a:uFillTx/>
                <a:latin typeface="Verdana"/>
              </a:rPr>
              <a:t>each</a:t>
            </a: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 resistor?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  <a:p>
            <a:pPr marL="597240" indent="-597240">
              <a:spcBef>
                <a:spcPts val="850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Verdana"/>
              </a:rPr>
              <a:t>What is the voltage drop across each resistor? Label on your circuit.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Parallel Circuits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Has at least one point where current divide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More than one path for current to flow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Paths are also known as branche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Lights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19" name="Picture 4" descr="u9l4b5"/>
          <p:cNvPicPr/>
          <p:nvPr/>
        </p:nvPicPr>
        <p:blipFill>
          <a:blip r:embed="rId1"/>
          <a:stretch/>
        </p:blipFill>
        <p:spPr>
          <a:xfrm>
            <a:off x="2354400" y="2111400"/>
            <a:ext cx="5626080" cy="383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Parallel: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add a resistor: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tal resistance goes dow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Total current goes up when you add another path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moving a Light Bulb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remove a light bulb or one burns out, the others stay on because the circuit is still closed.  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urrent in Parallel</a:t>
            </a:r>
            <a:r>
              <a:rPr b="0" lang="en-US" sz="42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flows into a branching point, the same total current must flow out again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depends on resistance in each branch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Current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Circuit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84872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Can either be series or parallel.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Picture 4" descr="u9l4b1"/>
          <p:cNvPicPr/>
          <p:nvPr/>
        </p:nvPicPr>
        <p:blipFill>
          <a:blip r:embed="rId1"/>
          <a:stretch/>
        </p:blipFill>
        <p:spPr>
          <a:xfrm>
            <a:off x="457200" y="3429000"/>
            <a:ext cx="8077320" cy="318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Voltage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Voltage is the same across each branch – because each branch is on the same wire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Voltag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9296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Resistance in Parallel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alculate current in each branch based on resistance in each branch by using Ohm’s Law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Resistance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Practice problem #2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79246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raw a parallel circuit with two resistors (one on each branch) and a 12 V batter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the voltage through each resistor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552600" indent="-552600">
              <a:spcBef>
                <a:spcPts val="1001"/>
              </a:spcBef>
              <a:buClr>
                <a:srgbClr val="0066ff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hat is the current flowing through each branch?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Toll Road—Circuit Analogy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39" name="Picture 4" descr="u9l4b6"/>
          <p:cNvPicPr/>
          <p:nvPr/>
        </p:nvPicPr>
        <p:blipFill>
          <a:blip r:embed="rId1"/>
          <a:stretch/>
        </p:blipFill>
        <p:spPr>
          <a:xfrm>
            <a:off x="1752480" y="1447920"/>
            <a:ext cx="6553440" cy="508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Toll Booth Explanation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ding toll booths in series increases resistance and slows the current flow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Adding toll booths in parallel lowers resistance and increases the current flow.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Batteries in Series and Parallel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43" name="Picture 4" descr="arrangement"/>
          <p:cNvPicPr/>
          <p:nvPr/>
        </p:nvPicPr>
        <p:blipFill>
          <a:blip r:embed="rId1"/>
          <a:stretch/>
        </p:blipFill>
        <p:spPr>
          <a:xfrm>
            <a:off x="990720" y="1523880"/>
            <a:ext cx="693396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n series—The voltage is increased.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n parallel—No change in voltage; these batteries will last longer!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One More FINAL Thing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Two Types of Current: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DC—Direct Current—produced by solar cells and chemical cells (batteries)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Verdana"/>
              </a:rPr>
              <a:t>Current only flows in one direction.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Current only takes one path for electrons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Verdana"/>
              </a:rPr>
              <a:t>Current flows through every part of the circuit</a:t>
            </a:r>
            <a:endParaRPr b="0" lang="en-US" sz="5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2</a:t>
            </a:r>
            <a:r>
              <a:rPr b="0" lang="en-US" sz="5000" spc="-1" strike="noStrike" baseline="30000">
                <a:solidFill>
                  <a:srgbClr val="0066ff"/>
                </a:solidFill>
                <a:latin typeface="Showcard Gothic"/>
              </a:rPr>
              <a:t>nd</a:t>
            </a: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 type of current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AC—Alternating Current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Current flows back and forth (alternates)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Found in homes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Generators produce AC current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Lights in a 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97" name="Picture 4" descr="u9l4b4"/>
          <p:cNvPicPr/>
          <p:nvPr/>
        </p:nvPicPr>
        <p:blipFill>
          <a:blip r:embed="rId1"/>
          <a:stretch/>
        </p:blipFill>
        <p:spPr>
          <a:xfrm>
            <a:off x="2362320" y="1828800"/>
            <a:ext cx="4314600" cy="452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Showcard Gothic"/>
              </a:rPr>
              <a:t>Series</a:t>
            </a:r>
            <a:endParaRPr b="0" lang="en-US" sz="6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76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Verdana"/>
              </a:rPr>
              <a:t>If you add a resistor (like another light):</a:t>
            </a:r>
            <a:endParaRPr b="0" lang="en-US" sz="4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Total resistance goes UP since all the current has must go through each resistor. 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01320"/>
            <a:ext cx="815328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Adding Resistors to Series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2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Current in the circuit will go DOWN (lights will dim)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12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Verdana"/>
              </a:rPr>
              <a:t>If you remove a light bulb or one burns out—all go out!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Current in Series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827000"/>
            <a:ext cx="80010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urrent is the same at all points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Use Ohm’s Law to find current using resistance and voltag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301320"/>
            <a:ext cx="7392960" cy="129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ff"/>
                </a:solidFill>
                <a:latin typeface="Showcard Gothic"/>
              </a:rPr>
              <a:t>Calculating Current Example:</a:t>
            </a:r>
            <a:endParaRPr b="0" lang="en-US" sz="50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66ff"/>
                </a:solidFill>
                <a:latin typeface="Showcard Gothic"/>
              </a:rPr>
              <a:t>Voltage in Series</a:t>
            </a:r>
            <a:endParaRPr b="0" lang="en-US" sz="55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Voltage is reduced by each resistance – voltage drop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3:33:04Z</dcterms:created>
  <dc:creator>Tarean Anthony</dc:creator>
  <dc:description/>
  <dc:language>en-US</dc:language>
  <cp:lastModifiedBy>Tarean Anthony</cp:lastModifiedBy>
  <dcterms:modified xsi:type="dcterms:W3CDTF">2011-10-13T19:21:01Z</dcterms:modified>
  <cp:revision>21</cp:revision>
  <dc:subject/>
  <dc:title>Series and Parallel Circuits</dc:title>
</cp:coreProperties>
</file>